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AAE-0E2B-4F27-9729-EFFC9226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CE8-FBBF-4AB3-A7B7-F2D4FD0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9C8-DDE1-4C81-AA94-8C223668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BDB-75C6-4052-94B7-2D744752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CCF8-9CFF-4DC2-BC9B-BAF76D05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E223-85B6-4906-AF10-80DDCE14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4952-711A-444F-8E77-732E9B6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667B-73AB-4DC5-B86D-1BE3229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C28-BE83-4E93-B29D-E6A55F09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64818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0655-C9C5-4A91-9EC4-2393A66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6671-6F62-428B-9C70-FC3A360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DF7-2B70-4E1E-92FA-D6CA1C9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1872-3AA9-49E1-BBE1-D112B25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0B6F-28C5-48DF-9913-1FC3264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8CBA-AF49-4974-B666-A297B49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D93-4DAD-4AD7-BDB5-88FA5DBA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DB8C-83D7-4626-8037-E927CD22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BC5-3920-4A2D-A7D5-1BD3087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6F0-2067-432A-B016-152893E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AF2-6139-431A-8163-099761E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64818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BFF-E20A-41DE-AA07-FD6E1723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98D-BF3E-4A62-A55A-509DF27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730-5A9E-482C-B3BC-3A25EAD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5B1-C99B-4E54-A4C4-B2E5C52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C01-669B-4383-A2A4-952322B5F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9FE-224D-441A-A9B3-9D41C22E3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arssociety.org.au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marshome.org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4frontierscorp.com/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redcolony.com/" TargetMode="Externa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Century Gothic"/>
              </a:rPr>
              <a:t>Living on Mar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9080" y="5253120"/>
            <a:ext cx="3274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Shaun Moss</a:t>
            </a:r>
            <a:br>
              <a:rPr sz="1800"/>
            </a:b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shaunmoss@yahoo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Mars Society Australia</a:t>
            </a:r>
            <a:br>
              <a:rPr sz="1800"/>
            </a:b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www.marssociety.org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16000" y="333360"/>
            <a:ext cx="187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Ai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752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arth: 20% 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, 80% N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n make air like this on Ma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from Mars’ at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Si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ycle using plants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5076720" y="2708280"/>
            <a:ext cx="3789360" cy="263700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194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Foo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5280" y="1988640"/>
            <a:ext cx="482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s’ dirt is not suited for life (ye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d grown in sealed greenho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Hydroponic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growing plants without dir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uaponic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fish farming combined with hydropon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hickens &amp; e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468360" y="2708280"/>
            <a:ext cx="3240000" cy="25923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Making fertile di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90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cess Mars dirt to make it less tox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 some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ycle food scraps  &amp; manure (human, cho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 earthworms (they’re also good food for fish and choo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508720" y="3068640"/>
            <a:ext cx="3240000" cy="2284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Clothing, etc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76720" y="2133360"/>
            <a:ext cx="56275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mp – ultra-useful 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l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nvas for shoes, bag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ubricants, paint, pla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emp oil – nutritional supplement, skin 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Later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cotton, syn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Eventually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wool &amp; l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395280" y="2708280"/>
            <a:ext cx="2590920" cy="24289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Building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5400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w grav &amp; thin air means less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ggest problem – ra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Surface structur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pile dirt on the ro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Underground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protection from radiation, and easier to keep warm (but need big machines to di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Dom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Glass or plastic, maybe infla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651640" y="2852640"/>
            <a:ext cx="3313080" cy="24843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Materi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08360" y="1915920"/>
            <a:ext cx="512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ron &amp; 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ed for many things: buildings, tools, kitchen items, furniture, vehicles, robot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rs is covered in iron! (ru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ke steel using carbon from at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y other metals available on M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n also make bricks, concrete, glass and plastics from local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2880000" cy="247788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539640" y="4508640"/>
            <a:ext cx="2880000" cy="192384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640" y="404640"/>
            <a:ext cx="2952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Electricit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32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Nuclear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problematic on Earth, even worse on Mars.  Also, would have to find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Solar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possible, but less sunlight on M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Wind!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 Lots of wind on Mars; the air is thin, but high-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443640" y="2492280"/>
            <a:ext cx="2286000" cy="342900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518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Vehicles &amp; Fue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84360" y="1989000"/>
            <a:ext cx="46911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sort of vehic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essurized r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TVs (quad bik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liders, planes, ballo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ckets, space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lking r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84978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ood fuel: methane (C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&amp; oxygen (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– easy to make from Mars atmo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684360" y="2708280"/>
            <a:ext cx="3313080" cy="244620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446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ill play a big part in colonising M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gging, mining, construction, exploration, transpor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ctronics from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odies could be imported from Earth, or made on Mars from steel and other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ftware – Earth or M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3780000" cy="33973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hat will we need to</a:t>
            </a:r>
            <a:br>
              <a:rPr sz="4000"/>
            </a:b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bring from Eart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08360" y="1988640"/>
            <a:ext cx="518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fe support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ctronics, computers &amp; communications g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bots, machinery, motors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lar panels, windm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eds,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oking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ames, books, mus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24000" y="2205000"/>
            <a:ext cx="3041640" cy="40053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Living on Ma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55640" y="2133360"/>
            <a:ext cx="46198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.  Earth and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.  Why would we want to liv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.  The challenges of living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.  What will we need, and how can we get all these th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.  Health &amp;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6.  Terrafor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324000" y="2708280"/>
            <a:ext cx="3929040" cy="26449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Health &amp; Fitnes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5256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w gravity means loss of bone and mus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ed lots of strength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gh radiation increases risk of cancer &amp; genetic mu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y inside during solar fl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ir, food &amp; water probably better than Eart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ild parks to play in, and to provide sunshine (artificial or re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5651640" y="3068640"/>
            <a:ext cx="3311280" cy="212724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Sport on Mars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87640" y="2060640"/>
            <a:ext cx="3456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ck-climbing, absei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ng-gl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ver 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liding, ballo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lying with wing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now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95280" y="1628640"/>
            <a:ext cx="2389320" cy="481644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6443640" y="2492280"/>
            <a:ext cx="2333520" cy="315288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Terraform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7867440" cy="22399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king Mars’ environment hospitable to organisms from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arming Ma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43322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reate global warming using PFCs (perfluorocarbons) – a powerful greenhouse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 mirrors in space to reflect more sunlight onto M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eating Mars causes frozen C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to sublime, thickening atmo and causing more warming – a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unaway greenhous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788000" y="2276640"/>
            <a:ext cx="4086000" cy="387648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00000" y="4581360"/>
            <a:ext cx="7272360" cy="2016360"/>
          </a:xfrm>
          <a:prstGeom prst="rect">
            <a:avLst/>
          </a:prstGeom>
          <a:solidFill>
            <a:srgbClr val="00000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Adding Nitroge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 make a thick atmosphere like Earth, need lots of nitrogen.  Some on Mars, but probably not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n get more N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from Venus or Titan.  Venus closer, but Titan eas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044720" y="4726080"/>
            <a:ext cx="1649160" cy="1768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71640" y="4870440"/>
            <a:ext cx="1800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ffff"/>
                </a:solidFill>
                <a:uFillTx/>
                <a:latin typeface="Arial"/>
              </a:rPr>
              <a:t>Ven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96.5% CO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3.5% N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4797360"/>
            <a:ext cx="180000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ffff"/>
                </a:solidFill>
                <a:uFillTx/>
                <a:latin typeface="Arial"/>
              </a:rPr>
              <a:t>Tit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98.4% N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.6% CH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Adding Lif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4560" y="2276640"/>
            <a:ext cx="856944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warmth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liquid water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, life can g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osphere develops with climate, from polar/alpine towards temperate/trop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enetic engine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340000" y="4797360"/>
            <a:ext cx="4105080" cy="182880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Building a Biosphe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. Begin with some hardy radiation- and cold-resistant micro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. As lakes form, add aquatic plants – these convert the atmo to oxygen.  Water provides protection from U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. Aquatic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. Rising oxygen levels cause an ozone (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layer to form, providing UV protection o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. Plants on land, then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6. Eventually humans can walk around on Mars without a spaces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Robot Gardeners!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355640" y="2421000"/>
            <a:ext cx="41864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bots will be much more advanced in 100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can plant seeds in the best spots, and look after the plants and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84360" y="1700280"/>
            <a:ext cx="3047760" cy="457200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133720"/>
            <a:ext cx="8424720" cy="4321080"/>
          </a:xfrm>
          <a:prstGeom prst="rect">
            <a:avLst/>
          </a:prstGeom>
          <a:solidFill>
            <a:srgbClr val="000099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ho’s making plan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0400" y="238752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Mars Society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analog studies, research, promoting manned Mars missions (</a:t>
            </a:r>
            <a:r>
              <a:rPr b="0" lang="en-AU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marssociety.org.au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Mars Homestead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designing a future Mars settlement. (</a:t>
            </a:r>
            <a:r>
              <a:rPr b="0" lang="en-AU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www.marshome.org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4 Frontier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company planning to build Mars settlement. (</a:t>
            </a:r>
            <a:r>
              <a:rPr b="0" lang="en-AU" sz="2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www.4frontierscorp.com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Red Colony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open source plan for colonising and terraforming Mars. (</a:t>
            </a:r>
            <a:r>
              <a:rPr b="0" lang="en-AU" sz="2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www.redcolony.com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Do you want to go to Mar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5122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kills, education, and/or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ome scientific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Good health &amp; fit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Good people ski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 range of inter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ood things to stu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ngineering, science, technology,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T, electronics, mathematics, robo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etalworking trades,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usic, writing, film-ma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5580000" y="2349360"/>
            <a:ext cx="3262320" cy="36007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989000"/>
            <a:ext cx="7704000" cy="4319640"/>
          </a:xfrm>
          <a:prstGeom prst="rect">
            <a:avLst/>
          </a:prstGeom>
          <a:solidFill>
            <a:srgbClr val="00000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b000"/>
                </a:solidFill>
                <a:latin typeface="Arial"/>
              </a:rPr>
              <a:t>Earth</a:t>
            </a:r>
            <a:r>
              <a:rPr b="0" lang="en-AU" sz="5400" spc="-1" strike="noStrike">
                <a:solidFill>
                  <a:srgbClr val="ccffff"/>
                </a:solidFill>
                <a:latin typeface="Arial"/>
              </a:rPr>
              <a:t> and </a:t>
            </a:r>
            <a:r>
              <a:rPr b="0" lang="en-AU" sz="5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6920" y="5013000"/>
            <a:ext cx="69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dius:           12746km              6805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avity:                1g                      0.38g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00720" y="306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411280" y="234936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94880" y="2492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596360" y="2349360"/>
            <a:ext cx="72720" cy="7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709720"/>
            <a:ext cx="93600" cy="104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90880" y="220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e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4880" y="2565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hob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481800" cy="3814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1258920" y="6165720"/>
            <a:ext cx="6696000" cy="28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Email questions to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shaunmoss@yahoo.com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1989000"/>
          <a:ext cx="8229600" cy="3975120"/>
        </p:xfrm>
        <a:graphic>
          <a:graphicData uri="http://schemas.openxmlformats.org/drawingml/2006/table">
            <a:tbl>
              <a:tblPr/>
              <a:tblGrid>
                <a:gridCol w="2602080"/>
                <a:gridCol w="2520720"/>
                <a:gridCol w="310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from Su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Gm (1A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Gm (1.5A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mosph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.3k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 N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 O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kP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CO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N</a:t>
                      </a:r>
                      <a:r>
                        <a:rPr b="0" lang="en-A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– 331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: 287K (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 – 293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: 210K (-6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gth of solar d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4h 40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gth of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.25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.6 sols (1.88y = 687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xial ti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b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9528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b000"/>
                </a:solidFill>
                <a:latin typeface="Arial"/>
              </a:rPr>
              <a:t>Earth</a:t>
            </a:r>
            <a:r>
              <a:rPr b="0" lang="en-AU" sz="5400" spc="-1" strike="noStrike">
                <a:solidFill>
                  <a:srgbClr val="ccffff"/>
                </a:solidFill>
                <a:latin typeface="Arial"/>
              </a:rPr>
              <a:t> and </a:t>
            </a:r>
            <a:r>
              <a:rPr b="0" lang="en-AU" sz="5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609300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rs receives only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f the sunshine that Earth does, but has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magnetosphere or ozone lay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to block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hy would we want to</a:t>
            </a:r>
            <a:br>
              <a:rPr sz="4000"/>
            </a:b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live on other world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0400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rvive asteroid impa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opulation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many new technologies &amp;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a global view of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r the challenge and adventu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148360" y="2637000"/>
            <a:ext cx="3663720" cy="293832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396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But why </a:t>
            </a: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08000" y="2060640"/>
            <a:ext cx="5194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s is </a:t>
            </a: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by fa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our best choice for colonis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 to Earth (and astero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rmth and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ength of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s seasons like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sources – atmosphere, water,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otential for terrafor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3284640"/>
            <a:ext cx="3529080" cy="2563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The challenges of</a:t>
            </a:r>
            <a:br>
              <a:rPr sz="4000"/>
            </a:b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living on Ma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5122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y thin and toxic at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ater frozen so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rad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w gra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ng way from h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 shop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435640" y="2781360"/>
            <a:ext cx="3424320" cy="266544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hat will we need to</a:t>
            </a:r>
            <a:br>
              <a:rPr sz="4000"/>
            </a:b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live on Mar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538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hysical nee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rm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ns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989000"/>
            <a:ext cx="46083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chnological nee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uters &amp;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ehicles &amp;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o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9280" y="980640"/>
            <a:ext cx="1873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ffff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335772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lenty of water, froz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But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Very cold ice is harder than rock – very hard to 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Solution: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eat up the ground, cause ice to sublimate, and capture the st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Also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Re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11280" y="333360"/>
            <a:ext cx="3671640" cy="25671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2:34:10Z</dcterms:created>
  <dc:creator>The Pad</dc:creator>
  <dc:description/>
  <dc:language>en-US</dc:language>
  <cp:lastModifiedBy> </cp:lastModifiedBy>
  <dcterms:modified xsi:type="dcterms:W3CDTF">2006-11-19T22:34:58Z</dcterms:modified>
  <cp:revision>232</cp:revision>
  <dc:subject/>
  <dc:title>Living on Mars</dc:title>
</cp:coreProperties>
</file>